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DA87-6B8F-4390-85C3-1F8E3FF4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911-4DF3-4C64-95BA-D7975DFA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947F3-6121-4BC1-86BD-A30A267D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00FE0-90CF-475F-BC0F-4FE168AB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64792-C014-4A0F-816E-A77A19DF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EA711-7AEF-4708-8DCF-4F1C63CA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D0B08-0E64-4F54-9995-16D131FC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2FEDD-0FC1-4941-9108-EEC012C7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895FF-62A5-4BEA-8D8D-809980F8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55C9A-1A1B-4FF2-A90D-4E897D71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9C356-3907-4E7A-9BFB-0E5F403E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7C327-5A53-44D8-B649-84B0573D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ED2-2685-48C8-9309-6252230E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CD775-BAFD-4CAA-BED1-0E879CDA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1AEC4-D98C-4C50-9187-8587A96C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8D64F-CB54-496D-AF15-1DD0476D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0DEF1-B1F2-4FA9-AA13-5FCD3529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75D72-8FF4-4A83-8DA0-4224F945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A08CF-5AC6-4BA7-B475-3D32AA69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E3969-D16E-4A39-87D9-6D57ECFF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AF526-D1EA-490D-AA4C-6AFA4C6D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E5A03-0847-4A64-833A-75284DDD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DF087-CD8A-4710-94B1-A114BDC6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06B-F1B0-4874-9976-BB974E79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CCD18-43AD-4C74-9365-0CDD998F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38723-CAA8-45C5-8F03-9DFEF0A5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58BD5-9F95-4D4C-8860-4A9C179A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D2016-5134-4235-826A-CE128C7C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17D77-AE50-4E2E-B7BA-35A9100F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4DA2E-3038-40BD-A2DD-5822E882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178E4-3A7C-496F-AB97-2719DD66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2CFAB-7BE4-4791-99C8-E7BCA9D1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1547A-0ECD-40EB-BCA0-6610F250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976B9-5C66-4F85-A7B4-880E2B81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69DF-B7AE-4F83-B2AD-0D7F1B30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B3D4E-465D-4AA9-9FEF-1D8797C8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ED855-4D90-41E3-9F99-D4DF77DC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E7079-A077-4EA0-B244-6499C9CD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32AAB-B1AE-4103-A76B-1E1F0310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9D8DD-F57E-416A-AEA1-0698040C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1358D-E94D-4A07-99C1-A8F545D4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59070-29F5-468D-B06F-929ACCC0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6FFE5-AC31-4DE5-B4EF-6B30BB3A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09D91-B12B-44E6-B3F9-C45A4A1F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EDE7C-A840-48FA-8453-8FED1435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19E6-9EE7-4BDE-9A6E-DA44D5E5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A7AF0-C670-4856-9D0C-ECA12105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967E9-DDE2-4878-A242-02E33C67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E6C5E-8565-4D79-8F6F-EE74A651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BBD43-6A41-42DB-BB51-9FA1A1AD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69A9A-B5E4-412A-BEC5-8479B362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4073F0-AD38-4DAD-B782-9181A5B7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2650B-268A-428F-B0C9-D9761E55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23F9D-B2E0-44A7-B263-B8447A10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FF0C8-E88B-4BA1-9692-D855411A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7D742-2F2E-42F8-BC3A-7FDFED4B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86D6-7D6E-447E-AC19-AD63B1E1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6A4C4-FBF9-408D-B4BC-95BA7A6C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D20D6-3E77-4E32-8DA7-7D843153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2B3D53-9713-4386-95E7-1D40186A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B7B4C-2BD8-4EFB-A850-45A2031E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95BF92-9DC8-4EAA-9EFE-B8277F5A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99832-90A0-49C0-85E0-2EE3AEAC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172BC6-8795-4E8D-BDD1-CA649A55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984A5A-1769-42DA-882F-96D85042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9BCE9-7D2A-436F-AF1E-2EF04B88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7E286F-FC52-464A-A177-3CE90BC3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77B9-FD97-4B61-BAED-9A658ED3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89F95E-D249-4A3D-91B3-0CC78D9F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AE019F-549A-4B7A-9E90-9BBE7F1F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27D90-D196-4D1C-8E9C-285EC812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0EF960-2B22-4AE2-95B4-89849C83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2B0753-6E21-40E5-92DE-473E463B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A1E378-3910-417D-92C8-0AAEB048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77880B-E534-4F80-9443-5B0CCF55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A44E9-831F-4C14-8CEF-1E7C0F13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E3BDD5-B75C-44E6-B761-BC1DDA96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D876F9-A3BD-4093-A784-2C2C38FF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7AB8-D1BC-42E1-AB9F-6457BE88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8959D5-4C7C-4DFA-85E2-A88266DB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7EDBF6-6BFD-4F2B-A1D2-1D0387F6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1EBBCA-AC4C-4A3C-BEB1-D52EFF6B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F10599-15B7-4CBE-A45C-A399E860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4A0275-2972-4B63-A2BE-B91626CF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47F4F0-FC32-4A33-9C06-10956E85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19DFD1-BC0F-409D-901C-3C270DCC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628A7E-4310-485A-BE25-853F908B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D9C8D4-D6A2-4C38-B2A3-35799510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1B1756-6959-4043-ACDE-E9851B45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88DB-0F4B-4EF5-ACA6-858150E2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2561F7-6A63-4313-8EAA-29ABC71E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73AF44-7E31-4938-9794-55334C48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B527C3-114F-4747-90E2-04D42211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A207CE-6692-44E8-8CE3-4220B437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0C0C61-6B28-415D-BAE5-ECF2BDB4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1B7488-9437-42BD-AC6E-80326DC9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81CD5D-113E-427C-AA00-BC9FDADA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B8FCE6-6F0E-4EAD-A280-4B5B272E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FB283E-33A1-4182-9224-50A4D8B0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7A2367-222F-4E06-8CFF-54E1E066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65EF-70AE-4871-ABBD-7B3B464F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1BAE51-A829-403F-881A-3C4C04B8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BB0120-615C-4CD8-90A0-42220A74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57DC8-46EF-4CDC-A967-52A3638D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077F93-8B49-4D85-8A07-F9418B85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4EC86A-E037-487D-A62E-E804FDC0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F3AF55-98EF-40D4-BEA2-214FD8F5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5A53C1-97D2-42F3-B841-0CD09F94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33706D-1ECA-4266-9AEB-63BA3BC7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C7DF85-37AC-4B88-856C-5CA1BAA3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86F7C9-23F7-40EC-B1D6-C06AFE0C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253-51D9-4785-8FB1-81BEF284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2468-7FAA-4DE4-A62B-FECA31B5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C31C97-A3D5-46BD-9CEA-ACB7A91B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1BF805-0E5F-4454-96F6-BF469F46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0055D8-2D46-4567-9D5F-3F0D01B3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5DABBC-D257-4F1B-B6F7-73BA00A2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B88DA9-DBF6-4B40-8F0D-BEAF8161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46CF85-E503-46C4-902F-662B9CDC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4051BA-1612-4B25-9689-85DD12BD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7B14C2-A99E-44BA-965E-B02A41BB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756A90-7490-4ACA-B566-EF46767E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5289F3-D43D-4B6C-AFA0-3317C2AC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9A37-1EC4-442A-AE7F-0EE0FFB9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4BFE0A-7825-41F0-B6B1-6911A93F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24F998-8EC3-430D-A756-9FDFD995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952A8-5490-4D94-A1FB-E59055F6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C6D696-5E5C-4A39-8642-3639CA17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8903FA-B12E-4663-ADCB-8C940E9A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6F9F73-2A18-43CA-8A9C-91EECE4E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A8AEB4-EF6D-4B70-B257-2DDD341E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51F766-B557-455C-B6C8-736127F0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67BA62-5068-49D5-8E92-A78BD881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7F9333-E42C-4703-9D9B-21285712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2039-4552-4626-B3DA-408A2451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1B48F4-965A-4E2B-BE6A-67B5A7D9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FAB843-841E-40B1-9BC6-DC32B15A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3F840E-0558-427C-AA40-C253A783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A02A5C-F372-499C-8B43-C921AE85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82ADB4-9875-4144-BEA7-0C4D1945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3C3031-F979-42B8-9245-5450BDAA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019E1D-1221-4B4C-8E1E-DF8CF7DE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C63E85-3AA4-4705-A030-EEFE58AD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244309-1E3D-437E-BB25-13EB56E8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37F500-EABE-493E-ADD7-73FBFAA0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1D98-D505-46D3-8361-C48BA858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90F121-8441-45A8-B706-04CEEAA7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B67564-2186-41E5-B56A-AB6A72F5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4B0B75-D6C7-4592-B93A-4787EADF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99779D-D03F-4CE1-93A4-B78174E8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D81DEE-237A-4A8F-815B-F68FD8A7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169AE9-2D90-4900-946A-7241FCC6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0D5929-CBE3-4B97-B02B-D6975DAC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BFFCD4-6D0E-4103-AF9C-43662689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B5592B-2BC0-4CC4-B6E4-54C219D2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9AA043-46FC-49A2-9714-8A354535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A8C0-FA28-48DA-ADBD-EE78BBE3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423DC1-651F-487E-9333-3855F384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F73C76-249B-4B18-849C-6C22E576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8509E2-7415-4151-9865-F6076937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310A1C-76B0-48CB-9C49-64673233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0CF586-B881-4FBB-A32A-B168A8AB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143D79-8F65-4C87-A09C-E289D561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665811-B33D-4218-81E0-F20CB7EF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960F18-00A8-4B72-9A91-19703563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883E24-A0C5-4943-A4E9-A2BA60DE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37D524-7421-4FF2-9029-33A9C749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FBAF2-67B6-47CD-8DA5-2374016D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F529BA-0D75-4687-8BE4-B2EC2D6D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C28C7A-6B02-4880-AC5C-15258366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F160D5-E2CE-4CB7-A886-5CF69370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389DD-8918-45D4-828E-D5C09FB0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38EA7-EDD3-4803-A6A3-481A9BB6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1ECB0-736C-4039-AC41-A3E394AA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FF1C5-1635-4CDF-AA5A-869B4FB2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FF7-E0C1-416B-AB21-26056B2A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D8EB6-244D-498D-83EE-96192614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9CE34-D129-493A-B204-131493D2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93B1D-DF68-429A-9756-67EC741F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5CA3A-ACD0-4372-B0A0-95D77F6E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57CD3-EB61-4785-BACA-4846DC2A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42209-A297-45EB-8BBC-A9874A58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37291-8628-46A6-8DB7-34898F1C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708B4-45A2-40F1-85E0-473E0500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F516B-B4F0-471D-B82F-6E33B45E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2019A-A572-4466-A7FC-77C5ED9C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443-6D9B-4676-8D65-7126F17B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E484B-DE8D-4AF1-BD0C-96B4D026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0A1FE-F6A8-4BAB-97C7-9F3C71B5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2B9DC-3C6F-44A3-A3B4-3F27CEE9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6CCB9-66B8-4C63-A883-7109FF26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83727-94B7-4E56-831A-C880E026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E60ED-F772-4209-9F6C-4C617678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0B23F-FC5A-4000-85F3-02E73AEC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66316-6701-4C50-9EB3-A04DA601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F4A47-C842-48D8-855D-BC9EEC2C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4F001-1897-4E73-8847-2AE6AFD9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351B-C4D5-4EBC-8928-C2B0EE63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51651-E4A7-4B51-98D0-3BEE6034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8D60D-79BF-48CC-9BF8-C67A758F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9B9E6-62C2-46AD-AC2B-B0598870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40E2C-043E-446E-86DB-A2DC3542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E9D30-012C-453A-9089-D69DC42D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FC54D-8343-4AA8-AFB4-9676E4C7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746EF-15E2-4A9A-A5B2-CAF9DB2B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5FCCC-6DF7-486B-A1DB-582BA7C3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7FD0E-E5D4-49C3-A9B7-70F8F232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407BB-DC83-42D1-9273-20BC95F1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F3F-3B2D-4522-ACC4-E5E6EE29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B781A-C20D-4709-ADA1-9E4A08F3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2CE4C-D831-40F5-A181-9D715689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26AED-B306-4C3A-97ED-90D0FFAD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080E1-2A6A-4245-98CD-89E80B10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90D80-F0AA-44E4-B7A4-F8F34A14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46BF8-02B1-4840-BBAE-F536579D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C7CFD-EFDC-46F3-A870-A62CF22B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B930D-5AAE-4475-9ADC-F3DB2727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CB202-2AA4-4C60-BC9A-3203E44A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64F05-A525-4197-B7BC-C2FC0D6A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3B12-E5A2-472F-A914-2D258497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F210E-3165-4C9C-856E-D254709F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A3AA8-1A74-4785-A95C-732B3AE6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381DD-36DD-4FDC-9A77-2BDAC387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17ACB-278A-499F-879C-074A6865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A84AE-E717-4B7E-92AC-91B10E6C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2AC9D-E815-4922-A136-0123425B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0C5F5-973D-4769-B416-B1FD1E05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340C9-C1AF-480F-B53C-500D85CE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5D7D9-FAD9-4F82-98D2-16F51BD7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9113C-2F88-400F-9AF7-27115554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111A-11D4-4D03-81BD-5272834F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49ED2-D57A-4A6A-88B3-F413F0F5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09F68-5CB4-4EEC-B3A5-7CEC876B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A48B3-4FC4-4850-BBF8-7EAC9774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06447-5F12-461E-9B77-B1E608FC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7D4A9-88EC-4125-A7FD-B0A27FB2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C3325-828F-4AEC-A6CE-147DC062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2F525-C105-48FC-A795-57F1C490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FF0ED-709C-46DC-ABF4-E729A527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A6EC1-95A9-40EF-B955-4FCCA619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54428-C010-4927-BBCA-06D37BCB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271D-2687-4FE8-B8F2-8734D184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4E13A-37F3-465D-963F-6858AE50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8067D-8F19-4A08-BCD7-25A12C76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27919-BB59-473B-9C5B-37E3BF68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E91F8-1FEE-4C66-9A43-6B8E51DF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25D1D-3D5E-41B0-BE59-7883CD3D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50A37-30B3-4BD1-ACF5-641E1F5F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6BDBA-6B64-43C2-99EA-9CCDDDB9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6A803-0BFF-4675-93C1-C41F845A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EFEB5-0D51-4EAE-8294-AFC71EE9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AE071-58DE-419C-A61D-074B517D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B4E5-4E76-488B-A459-9E274BB6D6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53A7-1D30-4A3D-A349-38ECFC2FCB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8E0B-F637-4CE2-8C2B-2A4E666718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1DB3-F81D-4071-BA75-A5D8EA8C4E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39ED-35DF-43C2-B423-6C50482CD9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D809-736E-4FFF-85CF-0ACA73C21E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CFFF-D9F4-45A3-84DF-9174DBD77D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CDE3-B870-4D6F-B643-BA12B185A6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2E6E-1AC0-4CEF-8728-4188218A60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62BC-628B-41E8-BBA5-31662A57ED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3D76-39BA-44AD-A5BB-137FF63135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C171-EDD7-43A8-8004-2FAAC64093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9D7B-2D50-4BEF-BEE5-6D04A6C659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7C60-FA2D-4B51-9F55-B2401079A2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AB8A-31F7-43C2-B13C-2330F51977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27F5-5E8B-4A15-A8E7-36B9E49659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44C2-4D96-4DCA-99D9-9B5E36A3AE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6FE7-5948-47B3-981E-26649179CF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12BA-F7A0-4262-AB78-C2FF6039A8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B807-350C-4C81-BBBB-A4B2A8C5B5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20B5-69F0-4B91-A965-5AA14AC0EA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61DA-7A05-45BE-B9B9-60DBBCDD89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310C-5193-4BF6-AC5C-974644D781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C370-3812-4085-BF60-F980F668DA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C1D1-C594-4732-A5BB-E36ED9E4F7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981C-2F28-48B3-AC32-288497D616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E6C3-7FC4-4417-945B-489681F013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63F1-97AE-4D36-91E0-8781BFA7FA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D2CF-4BCB-4967-9E87-7FF20EDAE6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B375-68FB-492D-98E3-7DBF0C0986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EEEE-9810-4D71-8295-E5D78559A1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823A-53CE-42AB-B453-D151A01501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45EE-4ECB-4EE7-A9F4-09CED86757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40E6-173C-40AE-A610-35949942A9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070F-7B51-4D37-A964-C65FA4F52A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E153-E88E-4354-B412-20902DD972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C608-BC0D-42B3-845C-FB1CB63EAB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3DAB-ED67-4817-A979-4149705978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28B5-24A3-4C1C-8C67-7AB6B27976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8F75-E03C-424F-9982-54D982040B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90920" y="3176640"/>
            <a:ext cx="39621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90360" y="838080"/>
            <a:ext cx="8963280" cy="5181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11200" y="1916280"/>
            <a:ext cx="276552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95280" y="2224080"/>
            <a:ext cx="276552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24000" y="2556000"/>
            <a:ext cx="453528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图片 60432" descr=""/>
          <p:cNvPicPr/>
          <p:nvPr/>
        </p:nvPicPr>
        <p:blipFill>
          <a:blip r:embed="rId5"/>
          <a:stretch/>
        </p:blipFill>
        <p:spPr>
          <a:xfrm>
            <a:off x="1623960" y="3741840"/>
            <a:ext cx="638172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1290600" y="2476440"/>
            <a:ext cx="6562800" cy="19051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6291360" y="28954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9" name="图片 59412" descr=""/>
          <p:cNvPicPr/>
          <p:nvPr/>
        </p:nvPicPr>
        <p:blipFill>
          <a:blip r:embed="rId3"/>
          <a:stretch/>
        </p:blipFill>
        <p:spPr>
          <a:xfrm>
            <a:off x="2143080" y="3220920"/>
            <a:ext cx="1655640" cy="3762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6300720" y="3645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图片 59414" descr=""/>
          <p:cNvPicPr/>
          <p:nvPr/>
        </p:nvPicPr>
        <p:blipFill>
          <a:blip r:embed="rId5"/>
          <a:stretch/>
        </p:blipFill>
        <p:spPr>
          <a:xfrm>
            <a:off x="2143080" y="3954600"/>
            <a:ext cx="165564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123840" y="905040"/>
            <a:ext cx="8896320" cy="5047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266400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684360" y="3962520"/>
            <a:ext cx="266364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826920" y="4888080"/>
            <a:ext cx="302436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755640" y="5219640"/>
            <a:ext cx="3024360" cy="2574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755640" y="5526000"/>
            <a:ext cx="3024360" cy="257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3995640" y="5526000"/>
            <a:ext cx="302436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8"/>
          <a:stretch/>
        </p:blipFill>
        <p:spPr>
          <a:xfrm>
            <a:off x="8532720" y="2608200"/>
            <a:ext cx="50328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9"/>
          <a:stretch/>
        </p:blipFill>
        <p:spPr>
          <a:xfrm>
            <a:off x="8583480" y="2981160"/>
            <a:ext cx="50328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0"/>
          <a:stretch/>
        </p:blipFill>
        <p:spPr>
          <a:xfrm>
            <a:off x="8431200" y="3332160"/>
            <a:ext cx="50328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1"/>
          <a:stretch/>
        </p:blipFill>
        <p:spPr>
          <a:xfrm>
            <a:off x="8523360" y="3701880"/>
            <a:ext cx="503280" cy="257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2"/>
          <a:stretch/>
        </p:blipFill>
        <p:spPr>
          <a:xfrm>
            <a:off x="8459640" y="4076640"/>
            <a:ext cx="503280" cy="2574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3"/>
          <a:stretch/>
        </p:blipFill>
        <p:spPr>
          <a:xfrm>
            <a:off x="8459640" y="4413240"/>
            <a:ext cx="50328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4"/>
          <a:stretch/>
        </p:blipFill>
        <p:spPr>
          <a:xfrm>
            <a:off x="8532720" y="4788000"/>
            <a:ext cx="50328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5"/>
          <a:stretch/>
        </p:blipFill>
        <p:spPr>
          <a:xfrm>
            <a:off x="8532720" y="5157720"/>
            <a:ext cx="503280" cy="257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6"/>
          <a:stretch/>
        </p:blipFill>
        <p:spPr>
          <a:xfrm>
            <a:off x="8317080" y="5516640"/>
            <a:ext cx="5029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14:04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